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jpeg" ContentType="image/jpeg"/>
  <Override PartName="/ppt/media/image18.jpeg" ContentType="image/jpeg"/>
  <Override PartName="/ppt/media/image1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35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35EA-D2DD-407F-8A08-E95CB77AE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37FC-5514-41E3-9AA0-6F9C957B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160F-5D18-4ABE-9792-BDE489E40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892D-828C-4E25-AD4D-19941F132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8685-2489-4927-B9B8-0D04A13BC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E30E-6D5D-4CF5-BCA0-326C7799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2E0B-7110-4021-B0E6-5E34EC3E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154D-7000-41DF-8E71-AD9B4DFF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C426-767C-4079-AC74-CA017337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A654-BE7C-4DE5-A45B-4E82F60D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785E-D23A-47E0-BE46-109B4504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5502-8734-416C-A16F-3643AB4F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DBC4-B788-4EAA-94EE-F752B844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5C9E-A156-4355-B640-708A8C96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7B5F-A446-4F69-ABA8-8927E783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6A4E-6485-461E-8E44-0BA995119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7BD3-B8D8-4AFC-8A80-2216AAC8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273B-5B3B-41B4-AFCF-3369CE48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8CA2-3B4E-4FBA-B16A-DEBBE80F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7112-A7A2-496D-8889-DE47B844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D97A-46C9-4B97-9720-6DAE4B45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035E-95A5-4315-BC21-3465E119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E8E7-0C39-4519-93AC-E845AEF8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C51E-C114-4EDB-8EAC-D7CACA6A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8C42-F654-484A-846D-5E8E28A0BBF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AA91-0BB4-49A5-A560-244B1D9DB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1A76-060B-4B15-AFBD-9DBF7C09BEF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6255-55AD-4E42-8F5B-246FD0F4C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bcbcb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bcbcb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792468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Leadership Skills:</a:t>
            </a:r>
            <a:br>
              <a:rPr sz="4400"/>
            </a:br>
            <a:br>
              <a:rPr sz="4400"/>
            </a:b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Problem-Solving </a:t>
            </a:r>
            <a:br>
              <a:rPr sz="5400"/>
            </a:b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and Decision-Mak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1337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#2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ther Additiona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800600" y="2742840"/>
            <a:ext cx="37339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ro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rif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lev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19320" y="2438280"/>
            <a:ext cx="2871720" cy="36576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arsay/rum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in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shful thin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beling the proble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aming/scapegoa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vid but minor evi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562720" y="2057400"/>
            <a:ext cx="3159000" cy="28004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 Outside the Libr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 Well as 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895480" y="2362320"/>
            <a:ext cx="3511800" cy="39243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n’t Overl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r own beliefs and bi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r own (possible) role in the sit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876920" y="3657600"/>
            <a:ext cx="2617560" cy="28735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uch Information I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80880" y="2871720"/>
            <a:ext cx="8458200" cy="22287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st Be Sure Yo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ver the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20800" y="2362320"/>
            <a:ext cx="3598920" cy="38862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724280" y="27432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ouncing around is natur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information may accrue over ti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#3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 It All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133720" y="2362320"/>
            <a:ext cx="4800600" cy="38401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eto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2133360"/>
            <a:ext cx="3962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/20 rule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cus on numerical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 to identif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situations are most comm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0" y="2743200"/>
            <a:ext cx="4003560" cy="26989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d M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ee-form note t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y kind of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 to show how different facts relate to the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to each 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3886200"/>
            <a:ext cx="3827520" cy="27795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 into Cau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t Don’t Bog Dow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 all problems are “caused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 all causes can be correc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sk for input – one person at a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895480" y="3657600"/>
            <a:ext cx="2971800" cy="17431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562720" cy="44499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All Decisions Require Equal Att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n-Problem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eciative Inqui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stematic discovery of the best in people and organiz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conditional positive ques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rected conversation and storytel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working wel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can we do more of tha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391520" y="228600"/>
            <a:ext cx="1539720" cy="17780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#4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Your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90760" y="2438280"/>
            <a:ext cx="4343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options do we hav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has been done in other libraries?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other disciplin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about something ne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3429000" cy="33303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tua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thing’s Gone Wr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5f5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and correct the changes that account for the fall-off in resul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790960" cy="27910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comb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tua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reased – or Changing – Expectation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5f5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new ways of operat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00200" y="2438280"/>
            <a:ext cx="5943600" cy="29448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tua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uble Whammy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5f5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ways to reengineer the system – correct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nv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4800600" cy="32414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cover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tua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Never Did Work Right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5f5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ways to overhaul – or completely rebuil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5181480" cy="29275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cover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hat Ca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 Your Thin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220932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arching for THE ONE RIGHT ANS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 involving front line peo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oking inside the library onl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iting for 100% agre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ar of embarrassment or fail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147080" y="3962520"/>
            <a:ext cx="1380960" cy="25905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 Sure to Incl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rrent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thing n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thing fu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105520" y="2638440"/>
            <a:ext cx="3429000" cy="33735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cover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#5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e Your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590920" y="2209680"/>
            <a:ext cx="4000320" cy="40006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066680" y="1662120"/>
          <a:ext cx="6858000" cy="4935600"/>
        </p:xfrm>
        <a:graphic>
          <a:graphicData uri="http://schemas.openxmlformats.org/drawingml/2006/table">
            <a:tbl>
              <a:tblPr/>
              <a:tblGrid>
                <a:gridCol w="1543320"/>
                <a:gridCol w="1199880"/>
                <a:gridCol w="1371600"/>
                <a:gridCol w="1371600"/>
                <a:gridCol w="1371600"/>
              </a:tblGrid>
              <a:tr h="114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ired Outc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8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8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ired Outc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8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8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ired Outc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8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ired Outc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8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8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8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8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1536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sion In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eaeaea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e the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eaeaea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ather additional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eaeaea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y it all ou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eaeaea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ntify your o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eaeaea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e your o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eaeaea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ke your dec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eaeaea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 forw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095880" y="2743200"/>
            <a:ext cx="2541600" cy="25066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305920" cy="670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OT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ngths – Weaknesses – Opportunities – Threats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MI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s – Minus - Inter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733920" y="2666880"/>
            <a:ext cx="2133360" cy="21337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x Thinking H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8153640" cy="41133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blinds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 Throu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s and Consequ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343400" y="2819520"/>
            <a:ext cx="4495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versib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ilot-ab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imel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litically sensitiv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80880" y="2666880"/>
            <a:ext cx="3505320" cy="34527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 Challenges in Many Library Environ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48320" y="2743200"/>
            <a:ext cx="3657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fection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tastrophiz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xed feelings about suc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3081600" cy="37335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#6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e Your Dec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743200" y="2286000"/>
            <a:ext cx="3789360" cy="41878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cut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ity Check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Thin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520" y="2743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might this decision change the library’s position or reputation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ll it set the stage or define a pattern for future decisi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 library stakeholders need a heads-u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o will get credit if things turn out wel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019920" y="380880"/>
            <a:ext cx="2666880" cy="21351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ke Time to Write a Brief Summary of Your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514600" y="2216160"/>
            <a:ext cx="4191120" cy="40784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#7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e For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unicate the decision/s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lan the implem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nitor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 as you 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410080" y="4114800"/>
            <a:ext cx="2571840" cy="25192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Things Go Wr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191120" y="22093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ork each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-prioritize if necess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intain focus on desired outco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fter a fair trial, change o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3505320" cy="31417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#1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 th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52520" y="22860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th who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2022480" cy="42069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a Complex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reak it do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rify with oth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ioritiz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876920" y="266688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534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be the Desired Outcome(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409720" y="2057040"/>
            <a:ext cx="2971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e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olv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ta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re’s what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houl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be happening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4132440" cy="42130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Specific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able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we trying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hiev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rv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voi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iminat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181480" y="2286000"/>
            <a:ext cx="3179880" cy="41148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k Back to the 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1051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ke sure your desired outcomes align clearly with the library’s mission and strategic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ity Check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sion Poli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o are the stakeholders in this situa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will they need to get out of any decis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and when should they participate in finding a solu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38680" y="380880"/>
            <a:ext cx="2667240" cy="18892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ystem8</cp:lastModifiedBy>
  <dcterms:modified xsi:type="dcterms:W3CDTF">2008-08-05T07:29:21Z</dcterms:modified>
  <cp:revision>192</cp:revision>
  <dc:subject/>
  <dc:title/>
</cp:coreProperties>
</file>